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FE5-13D3-4178-BB1B-C9076F3E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3DA-5E1B-483A-93DC-723AE5B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260-2B1B-4FAE-823A-429533B8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0A0-63C1-4A80-9FB8-72612736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BBD2-FC5D-4677-AAD4-8E6C4666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EA27-81BA-4E22-ACD7-25AA8CBD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922-B174-4AF0-9D6A-4555E9B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92E-BC28-432F-B534-24638F9A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F9D-0820-48E9-8E9B-D31A2833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F19-0D43-4CA4-948B-E777DDB5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3265-69EA-46F5-AEC2-6B3E0FB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1E7-AD6D-472E-B456-A0A3708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5818-965B-406B-9DB9-BA1FEDA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FB3-D317-431F-BAF7-AFE32AE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16A-62B3-4A10-BE0A-9974B1F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7AB1-76CD-49A9-BEAD-DD0AAFBA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414B-BA2C-4BD0-A821-D714BB29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D32-EE64-41CE-A2D2-FFD633E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356-F20F-432C-9F8F-691A280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3CB-387F-4A43-91CB-34191D4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752-5DD8-453E-890B-C97C496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5C7-0A3F-46F0-B621-4C79DE9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E8A-E6DC-4410-9C48-74B32D7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81F-2DA7-46A1-9C02-1BECF1C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9C0-7CFB-4115-88F3-0E379820503C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90E-E46F-4A69-A965-9D6A6B1803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B9E-A744-4DDD-96BF-448F5BA6E0B8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A49-0F67-463C-B944-68679BE314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llbio.utmb.edu/cellbio/filam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Cell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48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076-172C-4834-A522-4F653688F2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BAAB0A-DF7F-4720-B6FD-FCEC7FD20486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lycolipids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outside of cel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ar groups projecting into the extracellular space (</a:t>
            </a:r>
            <a:r>
              <a:rPr b="0" i="1" lang="en-US" sz="2800" spc="-1" strike="noStrike">
                <a:solidFill>
                  <a:srgbClr val="6699ff"/>
                </a:solidFill>
                <a:latin typeface="Tahoma"/>
              </a:rPr>
              <a:t>blue col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rotective, insulators, and sites of receptor binding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commun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759120"/>
            <a:ext cx="60195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2BE-67D1-4CB8-9E4D-E5A40BF672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59D76-BE82-479F-9138-7D39802727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ount of cholesterol may vary with the type of membr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 membranes have nearly one cholesterol per phospholipid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mbran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ike those around bacteria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no choleste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holesterol.jpg (33106 bytes)"/>
          <p:cNvPicPr/>
          <p:nvPr/>
        </p:nvPicPr>
        <p:blipFill>
          <a:blip r:embed="rId1"/>
          <a:stretch/>
        </p:blipFill>
        <p:spPr>
          <a:xfrm>
            <a:off x="5943600" y="1676520"/>
            <a:ext cx="2971800" cy="29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887-5469-4042-8064-968E06A0A3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861A4-56B4-4645-B791-D425D668C5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obilize the top part of the phospholipid molecu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the lipid bilayer less deformable and decreases its permeability to small water-soluble molecu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cholesterol (such as in a bacterium) a cell would need a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crystallization of hydrocarbons and phase shifts in the membra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cholesterol.jpg (33106 bytes)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7A7-F4F3-40BE-B70B-F61BA795F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5058F-181F-4F5C-ACC6-BF3ED6FEB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ssive Transpo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ll membrane is semi-perm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mosis or diff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lecules move freely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movement of water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0BB-CE35-416F-852E-F0CC5B1E61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91864-72BB-43BE-AB7B-B559FCEFD997}" type="datetime1">
              <a:rPr lang="en-US"/>
              <a:t>07/30/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ilitated Diffu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0240" y="2125800"/>
            <a:ext cx="685800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of molecules across the membrane with the help of membrane protei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ecules move along a concentration grad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from an area of greater concentration to less concen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example: The movement of gluco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facdifan.gif - 30.3 K"/>
          <p:cNvPicPr/>
          <p:nvPr/>
        </p:nvPicPr>
        <p:blipFill>
          <a:blip r:embed="rId1"/>
          <a:stretch/>
        </p:blipFill>
        <p:spPr>
          <a:xfrm>
            <a:off x="3809880" y="5334120"/>
            <a:ext cx="32767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66E-757C-4AE8-8C29-6D56FBE505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A7993-15B4-4AD2-A11A-401E89039C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tive 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ation across the membrane that requires the use of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s molecules from an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w concentr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 high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Transport through the membrane"/>
          <p:cNvPicPr/>
          <p:nvPr/>
        </p:nvPicPr>
        <p:blipFill>
          <a:blip r:embed="rId1"/>
          <a:stretch/>
        </p:blipFill>
        <p:spPr>
          <a:xfrm>
            <a:off x="2590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ovement from low to high concentrations"/>
          <p:cNvPicPr/>
          <p:nvPr/>
        </p:nvPicPr>
        <p:blipFill>
          <a:blip r:embed="rId2"/>
          <a:stretch/>
        </p:blipFill>
        <p:spPr>
          <a:xfrm>
            <a:off x="56386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62D-382C-4E78-B960-3790BABE46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71E50-AE59-472E-BB24-2C2181212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re cells so smal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 are limited in how large they can b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er cells provide a larger surface area to volume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easier for a small cell to pass materials in and out of the membrane, and to move materials through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cell becomes too big, it will divide or di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9AA-B87B-459E-9BB2-0AA7AA1B93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5C271-AA2A-4CD8-BC7D-52EFD8567A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rface Area to Volume co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983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89000" y="2400480"/>
            <a:ext cx="669780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F02-69F3-418B-8347-1D61140A4C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7E8A0-636C-450F-A53D-02A52605E5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b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transportation moved the potassium permanganate into the cells of the pota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it active or passive transpo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know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urface area and volume ratios, which of the three different sized potatoes should have had the most diffu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is match your resul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B26-1017-49C2-8D59-414B88A227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33CB9-F3F5-4921-A458-F90CE3D216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is the cell membran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utermost lining of a c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internal from the external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boundary in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 have a rigi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ell wall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952880" cy="20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61C-7AF4-49C7-B31F-8D7879635D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95A42-21FB-49DA-8E3F-6472741F1950}" type="datetime1">
              <a:rPr lang="en-US"/>
              <a:t>07/30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are membranes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16160" y="1851120"/>
            <a:ext cx="729288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 transport of substances into and out of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for cell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choring sites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ytoskeletal fila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components of the extracellular matri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stable site for the binding of enzy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passageway across the membrane for certain molecu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5F7-DD5B-4704-B5CA-F27B912164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B4B6A-5F0F-4F04-B7CF-2A78F871FD30}" type="datetime1">
              <a:rPr lang="en-US"/>
              <a:t>07/30/26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Knowled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 &amp; D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0-4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two layers of lip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co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open gaps – “por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DDmodel.jpg (24594 bytes)"/>
          <p:cNvPicPr/>
          <p:nvPr/>
        </p:nvPicPr>
        <p:blipFill>
          <a:blip r:embed="rId1"/>
          <a:stretch/>
        </p:blipFill>
        <p:spPr>
          <a:xfrm>
            <a:off x="457200" y="4183200"/>
            <a:ext cx="3809880" cy="236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Robertson.jpg (25707 bytes)"/>
          <p:cNvPicPr/>
          <p:nvPr/>
        </p:nvPicPr>
        <p:blipFill>
          <a:blip r:embed="rId2"/>
          <a:stretch/>
        </p:blipFill>
        <p:spPr>
          <a:xfrm>
            <a:off x="4876920" y="4118040"/>
            <a:ext cx="3733560" cy="2435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24280" y="1447920"/>
            <a:ext cx="4191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OBERTSO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95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ated with a glycoprotein cov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 Large open gaps – “por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78E-B41B-41F7-B999-2D73A6F540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FA155-4F2B-4A9B-BC17-8B99478FDB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uid Mosaic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7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er and Nichol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s function in two dimen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lecules can rotate and move laterally (no flip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s embedded randomly (a mosa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8F8-768B-4479-AE04-DCD6BE209E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5477D-3B83-4C94-8B2C-E8AC0A6820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is the membrane construc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mbles a railroad track, otherwise known as a fluid mosa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ayers of phospholi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ittent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 to lip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 varies by cell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41911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1BD-0C6B-4B84-BD05-1A3E78BFAF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55F5D-8E63-4480-9459-1129B8213DA8}" type="datetime1">
              <a:rPr lang="en-US"/>
              <a:t>07/30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hospholipid Bi-lay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phipath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ilic” polar heads pointing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obic” portion forming the c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luid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molecules are in constant 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200484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56006" r="0" b="0"/>
          <a:stretch/>
        </p:blipFill>
        <p:spPr>
          <a:xfrm>
            <a:off x="3505320" y="4191120"/>
            <a:ext cx="426708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FD5-B5D9-4B22-9483-3DBCDDA22E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FA9D6-1AA1-48FE-BCCF-5DF6B4991FFD}" type="datetime1">
              <a:rPr lang="en-US"/>
              <a:t>07/30/26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Key Parts to the Plasma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1560" y="1851120"/>
            <a:ext cx="72882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embrane protein and Peripheral Prote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uring active transport of particles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zes cell sh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ell membrane Fluid mosaic model"/>
          <p:cNvPicPr/>
          <p:nvPr/>
        </p:nvPicPr>
        <p:blipFill>
          <a:blip r:embed="rId1"/>
          <a:stretch/>
        </p:blipFill>
        <p:spPr>
          <a:xfrm>
            <a:off x="5486400" y="4191120"/>
            <a:ext cx="278928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F60-5052-4A76-82D7-8E774F5107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9CB6B-9211-4ACB-B36E-5EB4749AAD13}" type="datetime1">
              <a:rPr lang="en-US"/>
              <a:t>07/30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ransmembrane Prot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 decrease the surface tension and allow for flexibility in the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48360" cy="30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962160" cy="25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A4E-764E-4974-8DEB-57B5F21B65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88DA2-3EB1-42D3-8AB1-DE3D759D2E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connor</cp:lastModifiedBy>
  <dcterms:modified xsi:type="dcterms:W3CDTF">2008-10-26T14:11:34Z</dcterms:modified>
  <cp:revision>10</cp:revision>
  <dc:subject/>
  <dc:title>PowerPoint Presentation</dc:title>
</cp:coreProperties>
</file>